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776760" y="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6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42984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C8CB18C-1EF4-4C28-9F02-BDC6B2E6CE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90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776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72240" y="6261120"/>
            <a:ext cx="2876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ts val="2699"/>
              </a:lnSpc>
              <a:spcAft>
                <a:spcPts val="1301"/>
              </a:spcAft>
              <a:buClr>
                <a:srgbClr val="1e6e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46844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6440" y="1730160"/>
            <a:ext cx="7788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ts val="6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5193c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5193c"/>
              </a:solidFill>
              <a:latin typeface="Arial"/>
            </a:endParaRPr>
          </a:p>
          <a:p>
            <a:pPr lvl="2" marL="914400" indent="38160" algn="ctr">
              <a:lnSpc>
                <a:spcPts val="26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84720" y="601992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a11d26"/>
                </a:solidFill>
                <a:latin typeface="Arial"/>
              </a:rPr>
              <a:t>www.</a:t>
            </a:r>
            <a:r>
              <a:rPr b="1" lang="en-GB" sz="2000" spc="-1" strike="noStrike">
                <a:solidFill>
                  <a:srgbClr val="a11d26"/>
                </a:solidFill>
                <a:latin typeface="Arial"/>
              </a:rPr>
              <a:t>transparentnost.org.y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11d26"/>
                </a:solidFill>
                <a:latin typeface="Arial"/>
              </a:rPr>
              <a:t>www.transparency.org/surveys/#c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3357720"/>
            <a:ext cx="633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Globa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Indeks percepcije korupcije</a:t>
            </a: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 (C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ansparency Inter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200</a:t>
            </a: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735360" cy="93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Rezultati CPI i Srbi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CG obuhvaćena u 7 istraživanja koja su uzeta u obzir pri sačinjavanju inde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lika većina istraživanja je objavljena tokom 2005 godine, dok su samo dva iz 2003 i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ngiranje po pojedinim istraživanjima kreće se od 2,2 do 4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ndardna devijacija u prihvatljivim granicama (0,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61960" y="581040"/>
            <a:ext cx="8020080" cy="56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53352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CPI 2005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 – bivša SFR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24000" y="1628640"/>
          <a:ext cx="8569080" cy="2592360"/>
        </p:xfrm>
        <a:graphic>
          <a:graphicData uri="http://schemas.openxmlformats.org/drawingml/2006/table">
            <a:tbl>
              <a:tblPr/>
              <a:tblGrid>
                <a:gridCol w="1008000"/>
                <a:gridCol w="1511280"/>
                <a:gridCol w="1501560"/>
                <a:gridCol w="1516320"/>
                <a:gridCol w="1541520"/>
                <a:gridCol w="1490400"/>
              </a:tblGrid>
              <a:tr h="398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</a:t>
                      </a:r>
                      <a:r>
                        <a:rPr b="1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l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1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r 2003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r</a:t>
                      </a:r>
                      <a:r>
                        <a:rPr b="0" i="1" lang="sr-Latn-C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0</a:t>
                      </a:r>
                      <a:r>
                        <a:rPr b="0" i="1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i="1" lang="sr-Latn-C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raživ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952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ven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800" spc="-1" strike="noStrike">
                          <a:solidFill>
                            <a:srgbClr val="00ff00"/>
                          </a:solidFill>
                          <a:latin typeface="Wingdings 2"/>
                          <a:ea typeface="Wingdings 2"/>
                        </a:rPr>
                        <a:t>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,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vat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800" spc="-1" strike="noStrike">
                          <a:solidFill>
                            <a:srgbClr val="ff0066"/>
                          </a:solidFill>
                          <a:latin typeface="Wingdings 2"/>
                          <a:ea typeface="Wingdings 2"/>
                        </a:rPr>
                        <a:t>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- 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800" spc="-1" strike="noStrike">
                          <a:solidFill>
                            <a:srgbClr val="ff0066"/>
                          </a:solidFill>
                          <a:latin typeface="Wingdings 2"/>
                          <a:ea typeface="Wingdings 2"/>
                        </a:rPr>
                        <a:t>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2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-10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bija i C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800" spc="-1" strike="noStrike">
                          <a:solidFill>
                            <a:srgbClr val="00ff00"/>
                          </a:solidFill>
                          <a:latin typeface="Wingdings 2"/>
                          <a:ea typeface="Wingdings 2"/>
                        </a:rPr>
                        <a:t>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</a:tr>
              <a:tr h="4507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don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843280" y="5013360"/>
          <a:ext cx="3097080" cy="2709720"/>
        </p:xfrm>
        <a:graphic>
          <a:graphicData uri="http://schemas.openxmlformats.org/drawingml/2006/table">
            <a:tbl>
              <a:tblPr/>
              <a:tblGrid>
                <a:gridCol w="3097080"/>
              </a:tblGrid>
              <a:tr h="192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ž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gask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lav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zamb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75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3171600" y="4581360"/>
            <a:ext cx="21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97. -  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. m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Bivše socijalističke zemlje</a:t>
            </a: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 Evrop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sto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ove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ađar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t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va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Češka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ov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eto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ugar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Hrvat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24280" y="15235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erme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ld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9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sr-Latn-CS" sz="2000" spc="-1" strike="noStrike">
                <a:solidFill>
                  <a:srgbClr val="ff0066"/>
                </a:solidFill>
                <a:latin typeface="Arial"/>
              </a:rPr>
              <a:t>CG</a:t>
            </a:r>
            <a:r>
              <a:rPr b="1" lang="sr-Latn-CS" sz="2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2.8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do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rus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kr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s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ba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ruz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Rangiranje Srbije i Crne Go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55640" y="1197000"/>
          <a:ext cx="8209080" cy="565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97000"/>
                    <a:ext cx="8209080" cy="56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Reakcije na dosadašnja rangiran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54160" indent="-25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le 2000: snažan podsticaj da se krene sa antikorupcijskim me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3 Očekivan veći pomak na listi u Srbiji, ali percepcija se sporo m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4 Napravljen novi pomak – približavanje realnom stanju stv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5 Zadržan minimalan trend rasta – nema radikalnih promena koje bi dovele do brze promene percepcije korupcij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obro: nema povratka na pređašnje st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Loše: i dalje daleko od zemalja sa kojima bismo voleli da se pored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Rezultati CPI i Srbi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emlje mogu da ignorišu rezultate CPI samo na svoju štetu – čak i ako ne odražava u potpunosti realno stanje stvari, CPI je dobar pokazatelj onoga šta drugi misle o n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eba usvojiti strategiju za borbu protiv korupcije, izraditi kvalitetne akcione planove i dosledno raditi na njihovoj prime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voriti povoljan ambijent za poslovanje – pravna sigurnost, efikasna sudska zaštita i smanjenje birokratskih proced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ije dovoljno samo donositi antikorupcijske propise, već i sprovoditi ih u delo, da bi se popravila slika koja vlada o zemlji u sv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5181480" y="838080"/>
            <a:ext cx="3962160" cy="4876920"/>
            <a:chOff x="5181480" y="838080"/>
            <a:chExt cx="3962160" cy="487692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181480" y="838080"/>
              <a:ext cx="396216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437440" y="838080"/>
              <a:ext cx="315396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521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Meri stepen u ko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jem se opaža korumpiranost javnih službenika i političar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Indeks se sačinjava na osnovu 16 različitih istraživanja i studija, koje je sprovelo 10 nezavisnih institucija ispitujući preduzetnike, analitičare i lokalne stručnjak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Arial"/>
              </a:rPr>
              <a:t>Indeks percepcije korupcije za 200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53352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CPI 2004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. – Najbolji i najg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55760" y="1143000"/>
            <a:ext cx="77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Zemlje percepirane kao najmanje korumpi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47640" y="1628640"/>
          <a:ext cx="6448680" cy="1979640"/>
        </p:xfrm>
        <a:graphic>
          <a:graphicData uri="http://schemas.openxmlformats.org/drawingml/2006/table">
            <a:tbl>
              <a:tblPr/>
              <a:tblGrid>
                <a:gridCol w="844560"/>
                <a:gridCol w="2251080"/>
                <a:gridCol w="1587600"/>
                <a:gridCol w="176544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</a:t>
                      </a: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l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.istraživanj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i Ze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258920" y="3789360"/>
            <a:ext cx="60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Zemlje percipirane kao najkorumpiran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47640" y="4292640"/>
          <a:ext cx="6400800" cy="2255760"/>
        </p:xfrm>
        <a:graphic>
          <a:graphicData uri="http://schemas.openxmlformats.org/drawingml/2006/table">
            <a:tbl>
              <a:tblPr/>
              <a:tblGrid>
                <a:gridCol w="838440"/>
                <a:gridCol w="2257200"/>
                <a:gridCol w="1552680"/>
                <a:gridCol w="175248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</a:t>
                      </a: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l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.istraživanj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janmar (Bur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menis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glade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Ciljevi CP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e izmeri koliko prisustvo korupcije u javnom sektoru opažaju poslovni ljudi, stručnjaci i analitičari rizik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e unapredi komparativno razumevanje nivoa korupci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ponudi presek viđenja donosilaca odluka koje utiču na trgovinu i investici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timuliše naučna istraživanja, analize uzroka i posledica korupcije, na međunarodnom i domaćem plan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doprinese podizanju svesti o korupciji u javnosti – i stvori klimu za promen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Metodolog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i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CPI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je “istraživanje grupe istraživanja” koje se odvija iz godine u godinu i pruža podatke koji se mogu kontinuirano pratiti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95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Arial"/>
              </a:rPr>
              <a:t>- Minimum 3 </a:t>
            </a:r>
            <a:r>
              <a:rPr b="0" lang="sr-Latn-CS" sz="2200" spc="-1" strike="noStrike">
                <a:solidFill>
                  <a:srgbClr val="0033cc"/>
                </a:solidFill>
                <a:latin typeface="Arial"/>
              </a:rPr>
              <a:t>istraživanja po zemlji</a:t>
            </a:r>
            <a:endParaRPr b="0" lang="en-US" sz="2200" spc="-1" strike="noStrike">
              <a:solidFill>
                <a:srgbClr val="05193c"/>
              </a:solidFill>
              <a:latin typeface="Arial"/>
            </a:endParaRPr>
          </a:p>
          <a:p>
            <a:pPr lvl="1" marL="762120" indent="0">
              <a:lnSpc>
                <a:spcPct val="95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0" lang="sr-Latn-CS" sz="2200" spc="-1" strike="noStrike">
                <a:solidFill>
                  <a:srgbClr val="0033cc"/>
                </a:solidFill>
                <a:latin typeface="Arial"/>
              </a:rPr>
              <a:t>Istraživanje pokriva prethodne 3 godine</a:t>
            </a:r>
            <a:endParaRPr b="0" lang="en-US" sz="2200" spc="-1" strike="noStrike">
              <a:solidFill>
                <a:srgbClr val="05193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Zemlje se boduju na skali od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 10 (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veoma ‘čiste’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o 0 (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veoma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korumpirane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Ispituje se percepcija (opažanje) a ne činjenice (npr. broj osuda, broj tekstova u medijim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Korupcija određena kao “zloupotreba javnih ovlašćenja za privatnu korist”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96000" y="5229360"/>
            <a:ext cx="2340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Mogućnost poređen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Indeks predstavlja presek viđenja poslovnih ljudi i analitičara za prilika u pojedinim zemljama i ne odražava nužno trendove za pojedine god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Skor je relevantniji od mesta na tabeli (zato što se broj država koje su uključene na listu stalno poveća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Promene indeksa kod pojedinih država mogu biti rezultat promene uzorka – istraživanja koja su uzeta u obzir pri sačinjavanju indeks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96000" y="5229360"/>
            <a:ext cx="2340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Arial"/>
              </a:rPr>
              <a:t>Nedostaci i prednosti CP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1440" indent="-27144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cc"/>
                </a:solidFill>
                <a:latin typeface="Arial"/>
              </a:rPr>
              <a:t>Indeks ne odražava stepen napora uloženih u borbi protiv korupc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cc"/>
                </a:solidFill>
                <a:latin typeface="Arial"/>
              </a:rPr>
              <a:t>Zemlje u razvoju mogu biti prikazane u lošijem svetlu usled pristrasnosti i predubeđenja stranih investitora (zato postoje i druga sredstva za merenje korupci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I druga sredstva za procenu korupcije dovode do sličnih rezultata kao i C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CPI je dobra šansa da se unapredi javna rasprava o korupc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CPI je dobar podsticaj za sprovođenje daljih anal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CPI obuhvata gotovo sve države sv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Izvor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1440" indent="-271440">
              <a:lnSpc>
                <a:spcPct val="110000"/>
              </a:lnSpc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U, the State Capacity Survey by the Center for International Earth Science Information Network (CIESIN) at Columbia University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EIU, The Economist Intelligence Unit, 20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FH, Freedom House Nations in Transit, 20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I, Information International, Beirut, Lebanon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MD, the Institute for Management Development, Lausanne. We will use the three annual publications from 2003-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IG, Grey Area Dynamics Ratings by the Merchant International Group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PERC, The Political and Economic Risk Consultancy, Hong Kong. We will use the three annual publications from 2003-20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Uneca, Africa Governance Report from the United Nations Commission for Africa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WEF, The World Economic Forum. We will use the three annual publications from 2003-20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WMRC, The World Markets Research Centre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lvl="1" marL="72396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Izvor podataka u inicijalnim istraživanjim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1341360"/>
          <a:ext cx="8101080" cy="4421160"/>
        </p:xfrm>
        <a:graphic>
          <a:graphicData uri="http://schemas.openxmlformats.org/drawingml/2006/table">
            <a:tbl>
              <a:tblPr/>
              <a:tblGrid>
                <a:gridCol w="844560"/>
                <a:gridCol w="2751120"/>
                <a:gridCol w="4505400"/>
              </a:tblGrid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zvo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Uzorak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CU,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U, FH, MIG</a:t>
                      </a:r>
                      <a:r>
                        <a:rPr b="0" lang="en-US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RC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Opažanja nerezidenata</a:t>
                      </a:r>
                      <a:r>
                        <a:rPr b="0" lang="en-US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; </a:t>
                      </a:r>
                      <a:r>
                        <a:rPr b="0" lang="sr-Latn-CS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spitanici uglavnom potiču iz razvijenih zemalja Zapada</a:t>
                      </a:r>
                      <a:r>
                        <a:rPr b="0" lang="en-US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TI/GI, I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Opažanja nerezidenata</a:t>
                      </a:r>
                      <a:r>
                        <a:rPr b="0" lang="en-US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; </a:t>
                      </a:r>
                      <a:r>
                        <a:rPr b="0" lang="sr-Latn-CS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spitanicia uglavnom potiču iz manje razvijenih zemalja</a:t>
                      </a:r>
                      <a:r>
                        <a:rPr b="0" lang="en-US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.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MD, PERC, Uneca </a:t>
                      </a:r>
                      <a:r>
                        <a:rPr b="0" lang="sr-Latn-CS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F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Opažanja rezidenata</a:t>
                      </a:r>
                      <a:r>
                        <a:rPr b="0" lang="en-US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;</a:t>
                      </a:r>
                      <a:r>
                        <a:rPr b="0" lang="sr-Latn-CS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ispitanici su uglavnom lokalni stručnjaci, lokalni poslovni ljudi i multinacionalne firme</a:t>
                      </a:r>
                      <a:r>
                        <a:rPr b="0" lang="en-US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23:54:27Z</dcterms:created>
  <dc:creator>nemanja</dc:creator>
  <dc:description/>
  <dc:language>en-US</dc:language>
  <cp:lastModifiedBy>User</cp:lastModifiedBy>
  <cp:lastPrinted>2001-02-20T16:28:36Z</cp:lastPrinted>
  <dcterms:modified xsi:type="dcterms:W3CDTF">2014-03-27T13:07:58Z</dcterms:modified>
  <cp:revision>2</cp:revision>
  <dc:subject/>
  <dc:title>Slide 1</dc:title>
</cp:coreProperties>
</file>